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63E4-D25D-417B-8BFE-A8A98C6F4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373B-D310-489B-B179-3CC3E022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59CB-1C90-4973-B5BD-9666A6E6C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2640-D4A4-4857-9BA4-FCCC9F0E0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72CE-CD18-4022-8141-27121C04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3A0B-E7C2-4898-8154-2A34CA54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C06A-7AA9-4611-A3D5-4D5659D4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3803-6AD9-4AF0-B93E-27AEE3AD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98EF-0F46-4D78-B88B-F626207E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227F-2831-4FF7-9B36-4033BA4F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A3A7-C13C-4717-A4C7-5E9A4180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4360-53B6-45BC-9DA4-83979A9B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A7DE-C050-466D-A329-3B35BAFA3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7-14T23:17:01Z</dcterms:modified>
  <cp:revision>77</cp:revision>
  <dc:subject/>
  <dc:title>Diapositiva 1</dc:title>
</cp:coreProperties>
</file>